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659-44EB-419D-A389-AD080D8D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C86-3EE7-4003-B2AA-2DAA170A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6D89D-DA7A-456B-B0CC-A9F9F9F4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97332-6A25-46BF-B623-8FD5ED6C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D3176-076D-468A-A7A4-9E3922EF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A3A99-9538-4E0F-853E-3D4FECF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1218A-11B2-4EB4-9AAC-8A8F86A4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AB7C9-F37B-43C0-A339-2A7827E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7803F-219C-4528-99C1-0381D3AF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6AB93-72D9-425A-8AC1-7D58772C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FBBB8-8457-42E9-9A37-3ED793C9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D55-1996-4E93-95EF-E6921B12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3FD-C55B-46DC-936D-D8760503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6B15-1CB0-470B-AA2E-20F8F3E9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1A24-35DB-4C88-8D14-457369DE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9C1D-AC04-4170-8C3C-FBF84C8C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86EB-3C30-49B0-9BF5-1704AD5F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9A61-55B2-4CF3-AB66-2E498C05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CCFC-D287-44F1-82DE-CF9F8B59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64C4-C0C0-4C21-BBEF-CDF51762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69A-CEE8-434B-A8FB-92EEB7DC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E7B4-1E01-4A2E-800C-15FBC30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4248-0276-45F8-9FDB-3C7706B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F4D8-9A33-4CC9-ADE9-1BA45C58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0CA0-D69B-4E25-952C-25A2FD6B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6876-9F8A-47F7-B027-83631371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1150D-6226-4792-B861-A1807838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CDBC2-B2EB-444E-B533-45C78AEB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4DD7-8973-4D78-B079-2B0CE6DC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0FDF-8E17-41BA-8793-926BC3FC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D55E-DE73-4D45-BB57-BD720206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2DB-55F9-441E-9D68-6130ED7E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0848-0779-49EA-8000-739556A8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7F07-5594-49D6-8A32-01BBEF5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C0C4-69A7-4D66-B448-70651C81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EC5A-03C4-4F9B-A421-1084EF2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8679-86C9-4C51-B00E-88D0A9BE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A04E-2F3B-414A-8712-CBD810BE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6EF3D-6A74-49A7-9793-21A13500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9A3FC-B98A-47C0-8F66-9DF6CC4E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7B742-6A67-4FFF-B23F-6D10EA9C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65D08-A8DD-4A74-A5CF-87B858AC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BB5-C923-4742-B2ED-DDB18D0D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B93EF-CD3F-40D8-BE41-2F48E88D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8F4FDF-4095-4804-A017-96F939AD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6FEFB-D4C3-4117-A8BF-B4BECADA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6C5D0-C19C-4B38-8BF4-8D3F18C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6450A-8314-4ABA-BBA5-9C1D8B75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D22B6E-671E-4676-9670-6F44F7B4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DC55E2-1CCC-4CBC-BE03-6598930B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E8C44-D33F-4023-8B98-73B16FCC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250A1-52AF-4696-A63F-C8C73B6C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CFAD-B011-4BCD-B356-02AA51A4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A8A-6933-4866-B4B1-6E8D2993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BA6A4-F656-4543-92FD-65BB7094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02DBC-1385-4B69-8BB9-65B37D47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DD189-6477-47E6-9D44-A8AA16A1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E86E2-59F0-4AF0-BE2F-6DE4FB63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CEAA-81F8-43D4-93C5-31695A7C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F189C-A992-4830-A9E8-EC2007B2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EAD26-2EED-4217-9486-C34B884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8FDE2-4367-4BA0-B7DE-5DECA71A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A2497-7719-4D63-809B-251E2EAF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4360D-3609-430B-9812-1F7796E1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750-A601-4BBA-AE8D-7A9E83AF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07406-FBF0-4DAF-AC01-28C6578A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182B4-FC3E-4747-8429-21F7854F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4F258-CB3F-4523-923B-EE73FA75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C5131-0FBF-4DB1-B5B0-2547A652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08628-25A7-4D29-815E-79AB8C47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96F50-6723-4636-A547-7991133B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2BF75-28D6-40C3-8257-A7D68302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7B0A5-BF0F-4483-B0D3-157344F7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98053-B22E-432F-B8A6-E0EFC596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5CF07-978C-4801-ABC9-B3C2F767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FD8-FD3A-4B38-930A-1356D273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C996C-FFE9-4236-A9FB-93E96DF2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0AFEA-A499-48CF-9B9D-001EDACA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3068-6C23-45F5-92BF-B0EF35F9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6D68F-82CD-45FA-A230-4A28F1A6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DA5A2-BBB3-45AB-B671-0222480F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7CD35-CE75-4A21-8BFA-EB4397E8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89541-CA2F-481E-9AF9-5D0987C6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F8901-362E-425A-8C42-5E8ED56D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999DB-F0C9-4ABC-826D-DE0F1A1A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A6538-C049-4A0A-B976-DEDD8BA9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E5A-82B4-4EBA-85F6-66DB8A3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143E4-0581-43F6-8261-16206450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59D38-FA92-455A-B269-E96816ED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28ACB-CEB0-444A-902C-7B065AAC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1A512-E92F-4CD0-956C-2CACC947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D3F9E-D466-46AB-9DB6-44C416DA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92181-4CF3-4DD9-8178-2668A2B5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7335F-6D61-472A-99FB-A3BE78F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B5C6F-663B-48B0-842B-17330620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388A5-961D-4EAA-B37A-C127E22D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C19B3-97A5-472D-9B1E-E8F4220E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C18-965D-49F1-8D1E-6F759146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90009-94D3-4ACC-B5EB-243B6123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DE8A7-18A0-479B-B3EB-4A04EF08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0732C-9934-4C2A-AAB8-3B90C9A9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0FF88-4F44-4AEE-B9A4-37E40415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6AE3D-F64F-4377-9A8B-C1843929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A1992-E80F-403B-97CC-98F402B1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89EBC-CD68-4F7C-B263-F13E1961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CF23E-D813-4129-9918-2EE28E21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9EE11-F08B-4ED4-B682-8AE05BC6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06F4F-D480-4A48-B9EE-EED361D2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03B8-4B70-48B2-986A-415AA8FE5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8F39-F184-451B-976F-C42CD85B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85CC-727D-4525-99F6-9A9D33FD5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44E3-957A-45CE-87AF-7761C033F4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9679-5C4F-4C34-BD0C-F72A95A081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6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6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9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4E04-DF54-402F-B7EA-96E37D07B8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4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7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57D9-9372-4D18-A40A-78B26370C8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5136-3701-44DA-AA3B-7D2E406612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62E-3EF3-4A13-973C-7B59247BA5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31784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55627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Bremen Bd BT"/>
              </a:rPr>
              <a:t>Rwan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estions/Answers/Concl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What do children make soccer balls out of?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* Plastic bags bundled together with twin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Who has to greet first, women or men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*Wom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roadway"/>
              </a:rPr>
              <a:t>We would like to go to Rwanda and try new foods and learn about the peop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895480" y="49528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Broadway"/>
              </a:rPr>
              <a:t>Extra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1.00 U.S. dollar = 540.050 Rwandan fran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Rwandan franc = .00185168 U.S. doll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arly everyone consumes ubugal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hick, doughy paste made from corn, sorghum, or cassava flour.  Formed into a ball, it is dipped into a sauce made from beans, vegetables, or me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fruits and vegetables include bananas, papaya, avocados, mangoes, sweet potatoes, passion fruit, tomatoes, cabbage, peas, and cassava leav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7543800" y="5181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800" y="3521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10469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emen Bd BT"/>
              </a:rPr>
              <a:t>Loc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Rwanda is located  at -1.5 degre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Latitude and 30 degrees longitud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In Central Eastern Africa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Bordering Rwanda is Burundi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Tanzania, Uganda and th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Democratic Republic of the Cong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3459240" cy="51055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3581640" cy="23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Bremen Bd BT"/>
              </a:rPr>
              <a:t>Did you know this about Rwand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wandan children often make soccer balls out of plastic bags bundled together with tw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More than 2/3 of Rwandans belong to Christian churc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3124080" y="3048120"/>
            <a:ext cx="1482840" cy="1981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Bremen Bd BT"/>
              </a:rPr>
              <a:t>Country and Development Dat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apital: Kigal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pulation: 8,648,248  growing at an annual rate of 2.4% ( in a total area that is smaller than Marylan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re is a 13 hour difference from Orem to Rwan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DP: $1,26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419720" y="4191120"/>
            <a:ext cx="4114800" cy="246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68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68" fill="hold"/>
                                        <p:tgtEl>
                                          <p:spTgt spid="5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emen Bd BT"/>
              </a:rPr>
              <a:t>Peo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oadway"/>
              </a:rPr>
              <a:t>Language: French, Kinyarwanda, and English are Rwanda’s official languag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oadway"/>
              </a:rPr>
              <a:t>Religion: 65% are Catholic, 9% are Protestant, 1% is Muslim, the rest practice indigenous beliefs exclusivel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roadway"/>
              </a:rPr>
              <a:t>Western style dress is common, combined with traditional cloth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269720" cy="19051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1577880" cy="221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Bremen Bd BT"/>
              </a:rPr>
              <a:t>Customs and Courtes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Greeting- younger people have to greet older people first, and women greet men first.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Breakfast is sorghum porridge or bread and tea.  Lunch is bananas or leftov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Gestures- one avoids eye contact with a superior or elder.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0574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remen Bd BT"/>
              </a:rPr>
              <a:t>Lifesty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Large extended families are common in Rwand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Dating- casual dating as couples is uncommon. Young people meet at social gathering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od- People eat what they grow or ow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port- Rwandans play soccer, basketball, volleyball, and jump rop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Independence day- July 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57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166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oadway"/>
              </a:rPr>
              <a:t>Socie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overnment- President is Chief of State.  The Prime Minister is the Head of Gover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ducation-  Rwandan children begin school at age 7 for six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ansportation- Rwandans walk or ride bik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429000" y="4862520"/>
            <a:ext cx="26668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Bremen Bd BT"/>
              </a:rPr>
              <a:t>Five French Wor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Bicyclet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llegro BT"/>
              </a:rPr>
              <a:t>Footb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harlesworth"/>
              </a:rPr>
              <a:t>Haric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FuturaBlack BT"/>
              </a:rPr>
              <a:t>Embrass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905120" cy="1406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3048120" y="3505320"/>
            <a:ext cx="1828800" cy="1368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5867280" y="5181480"/>
            <a:ext cx="2286000" cy="14893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6705720" y="2666880"/>
            <a:ext cx="1320840" cy="19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20:34:57Z</dcterms:created>
  <dc:creator>CVJH-LAB</dc:creator>
  <dc:description/>
  <dc:language>en-US</dc:language>
  <cp:lastModifiedBy>nield411</cp:lastModifiedBy>
  <dcterms:modified xsi:type="dcterms:W3CDTF">2008-01-12T00:41:09Z</dcterms:modified>
  <cp:revision>11</cp:revision>
  <dc:subject/>
  <dc:title>Rwanda</dc:title>
</cp:coreProperties>
</file>